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19B-33C9-4E0F-B77C-0E9BB3BE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5FD-12FE-4794-9E2E-D8096900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244-FECC-46DD-858E-48410877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B5F-9640-4617-83E9-CB47EC07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7FD10-0A26-4E0A-88B5-48F1CBF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84661-894E-4184-9D31-B5BA57AC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463D-8056-4803-886E-09FDA322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5A3B3-E627-4158-8206-B93B81C8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1FF57-F776-4333-9F28-02174782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9F981-55FB-46AD-AA0A-2B31AF56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7629B-E3DA-4750-B810-B3BDF97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876-C605-4709-BD6A-3C2E3B0E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0E88-8AFA-43DF-9909-8538A9DC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9A766-A334-4AF6-8AF3-62A115A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E07E-31E6-448D-817D-26676628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F4F58-7CB8-4BAF-BCB2-D180F4D3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66F51-3EA4-4C16-9756-CF18DE45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934-F054-405A-B4E0-CBAB28F5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BCC-B97E-4591-AE1E-C57BD2D8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7F2-3EB6-4223-8944-E59B4BE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39D-6417-4F36-A72C-AE732E9F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4C7-08B0-4CD2-A215-17C659DF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54B-A42A-4406-9908-90D1C4C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667-964B-44FA-B0DF-B6F9E5B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F4F0-2B49-4989-9A27-21D6E79DE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9A5A-1C11-410E-A640-3ACBDA16D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solar/energy-and-you/affect/hydro.html" TargetMode="External"/><Relationship Id="rId3" Type="http://schemas.openxmlformats.org/officeDocument/2006/relationships/hyperlink" Target="http://ga.water.usgs.gov/edu/hyhowworks.html" TargetMode="External"/><Relationship Id="rId4" Type="http://schemas.openxmlformats.org/officeDocument/2006/relationships/hyperlink" Target="http://www.energyrefuge.com/archives/hydro-electricity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Alternative Energy Resource</a:t>
            </a:r>
            <a:br>
              <a:rPr sz="40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Hydroelectri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6720" y="54097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cript MT Bold"/>
              </a:rPr>
              <a:t>Chris Nguy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3657600" cy="300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38480" y="2590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What is hydroelectricit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droelectricity is an renewable energy that use of the power of the moving water to turns the turbine of the generator and produce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886200" cy="277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10080" y="3809880"/>
            <a:ext cx="24735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How does it work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mon power station that use hydroelectricity is the dam. Dam is a huge barrier that block the water in a side and release the water that is use to power up the generator and produce energy the other si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3 steps for producing electric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The water turns the turbines of the genera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The generator produces electric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The energy produce is send to the high voltage l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3238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er is a free renewable resou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er is the most abundant resource on Ear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tive all the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dro power plant are really cheap to oper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 is an economic way to produce ener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carbon dioxide emission =&gt; reduces the used of fossil fu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ack that is created during the built of the dam can be used as water park or for the purpose of the fish farm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62720" y="259092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2280" y="2590920"/>
            <a:ext cx="2114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Disadvantages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ect dramatically the eco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oding cause the destruction of plants and animals 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dams can cause soil ero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 relo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s are really expensive to bui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3276720" cy="2293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72200" y="144792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1906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power stations have limited locations for many reas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a close area: the water flow has to be between mountains or high elevation to prevent side fl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iddle/strong water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 risk area with low co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5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the power plants can be difficult for many reas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have to make research about the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lan have to be approved by the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a dam can cause the death of many species and the lost of historical th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ding will affect the zone where the dam is and also affect the different areas linked to the water fl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have to be relocated if the plan is appro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a dam is really expensive and takes a long time to be achie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epa.gov/solar/energy-and-you/affect/hydro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ga.water.usgs.gov/edu/hyhowwork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energyrefuge.com/archives/hydro-electricity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17:51Z</dcterms:created>
  <dc:creator>sasd</dc:creator>
  <dc:description/>
  <dc:language>en-US</dc:language>
  <cp:lastModifiedBy>sasd</cp:lastModifiedBy>
  <dcterms:modified xsi:type="dcterms:W3CDTF">2009-04-29T14:38:16Z</dcterms:modified>
  <cp:revision>16</cp:revision>
  <dc:subject/>
  <dc:title>Alternative Energy Resource Hydroelectricity</dc:title>
</cp:coreProperties>
</file>